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DRIVEBY.WAV" ContentType="audio/x-wav"/>
  <Override PartName="/ppt/media/LASER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D62-1E36-465D-B450-2C93E19B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6F8-416C-4483-84FD-FA0CC809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9C3-0909-4969-815D-287BD2D9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6DA-D894-44B1-B3E8-54D79C9B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25B-5D76-4A8A-AC02-FC112892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C51-A26B-4C33-82E1-0038BA69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80C-8ECD-4E6C-8179-E3A163C2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C2D-7C46-42F8-AB98-5C609C25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0FF-2E93-4DF2-ADE5-2A6F32C7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DBB-B11D-4B25-B829-07BFF78D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5E0-7F86-4EEC-9B84-21FED47B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2BB-01AC-4C94-B18B-33D89DA8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59A3-B37B-4A06-8B25-606E14E3B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457200"/>
            <a:ext cx="4038480" cy="800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7738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Lucida Calligraphy"/>
              </a:rPr>
              <a:t>POLYNOMIA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Lucida Calligraphy"/>
              <a:ea typeface="Lucida Calligraphy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1143000"/>
            <a:ext cx="794412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Lucida Calligraphy"/>
              </a:rPr>
              <a:t>ADDITION  AND  SUBTRA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Lucida Calligraphy"/>
              <a:ea typeface="Lucida Calligraph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195560" y="1676520"/>
                <a:ext cx="626256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971800" y="2514600"/>
                <a:ext cx="6858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581280" y="2590920"/>
                <a:ext cx="9907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04640" y="3505320"/>
                <a:ext cx="85615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838080" y="4267080"/>
                <a:ext cx="36576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419720" y="4267080"/>
                <a:ext cx="12189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562720" y="4267080"/>
                <a:ext cx="13716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934320" y="4343400"/>
                <a:ext cx="990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76520" y="5076720"/>
                <a:ext cx="990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514600" y="5105520"/>
                <a:ext cx="11430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581280" y="5105520"/>
                <a:ext cx="1143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648320" y="5181480"/>
                <a:ext cx="9144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4560" y="1225800"/>
            <a:ext cx="83462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Old English Text MT"/>
              </a:rPr>
              <a:t>Bookwork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Old English Text MT"/>
              </a:rPr>
              <a:t>pg. 657 #2-50 ev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675"/>
                            </p:stCondLst>
                            <p:childTnLst>
                              <p:par>
                                <p:cTn id="72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20:18:39Z</dcterms:created>
  <dc:creator>CCSS</dc:creator>
  <dc:description/>
  <dc:language>en-US</dc:language>
  <cp:lastModifiedBy>damon.skelton</cp:lastModifiedBy>
  <dcterms:modified xsi:type="dcterms:W3CDTF">2003-04-17T15:29:14Z</dcterms:modified>
  <cp:revision>10</cp:revision>
  <dc:subject/>
  <dc:title>No Slide Title</dc:title>
</cp:coreProperties>
</file>